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2C8-CD30-4E86-893E-811BD12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C4C-7111-44B2-AAFB-56D870B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A2E-83ED-4936-B278-D764F39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8B9-B2F2-460D-BA9A-3D964DF3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DC9-57B3-4D8C-A73E-05877AA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29E-D07A-4C5B-9CB1-29F012D2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5D5-7FD4-44F5-A415-855B627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CFA-98BB-4FCC-89E3-2D62D49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1C7-01E4-41A8-AE00-816F36B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436-A1AA-41DA-B2E5-37E83CC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411-9ADC-4206-8FB0-037673A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7BE-FB1B-4188-8C9C-8494D5C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7DB-73D7-451B-968D-ABF93D7B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United Kingd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ameron and 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geography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lp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guage in the UK is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London, Engl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. Is 60,587,6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p 2 Riv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n- longest river(220 m. lo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mes- flows through London,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food in the UK is fish and c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famous for roast meat, pies, and p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breakfast is cereal, bacon, eggs,    and to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sport in the UK is soccer (they have won 3 world cup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lso go and watch horse racing, and cri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7040" y="433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12" y="12030"/>
                </a:moveTo>
                <a:lnTo>
                  <a:pt x="11212" y="12030"/>
                </a:lnTo>
              </a:path>
            </a:pathLst>
          </a:custGeom>
          <a:noFill/>
          <a:ln cap="rnd"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nehe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ocks that are were made by an ancient civilization (3,500 to 3,000  years o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s weigh about 4 to 50 t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henge was originally made by people that worship the s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% of the people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 cities started to grow after the industrial revolution 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ames run straight  through Lon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annica student encyclopedia p. 1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N.S.I.D.E Great Britain p. 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32:06Z</dcterms:created>
  <dc:creator>The </dc:creator>
  <dc:description/>
  <dc:language>en-US</dc:language>
  <cp:lastModifiedBy>lslibrary</cp:lastModifiedBy>
  <dcterms:modified xsi:type="dcterms:W3CDTF">2009-02-12T19:10:17Z</dcterms:modified>
  <cp:revision>9</cp:revision>
  <dc:subject/>
  <dc:title>The United Kingdom </dc:title>
</cp:coreProperties>
</file>